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8D65-4514-4697-85D1-8847261B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2A4-E759-4DBE-BAF3-623DDA63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0D9-6163-4C5C-8CAF-7533DA7D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64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99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64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227-0AE7-47AD-B0F9-ECE2F788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7118-9057-42BA-AD33-642CFB30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D82B-D29E-4053-B73A-A504190B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468E-A54F-45E9-8BD2-8FEDAF5C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681C-95CC-4D69-8D43-F58AD826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8455-70A1-4AD3-B444-2AAA3F76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9876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AAF3-FAAF-44D1-A127-FEA664C4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5B7D-4F7E-4DF4-8660-9186AC6C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D701-4A8C-4BAE-A3F8-CFAE517B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4F94-1093-4C49-80B6-292D685A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E4C8-2DC2-48C9-83C9-0F55AA1A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C3F6-9869-44DE-A5B6-24C09EF8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C494-3681-4761-A06C-66C1944E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64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99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64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7A3B-FA9E-4B8C-9B03-16C462A1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C6B-5737-4D80-A179-36C87C31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7D9-AFCA-44EA-889B-C34CA059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77F-5C2A-4EE6-8D91-595A1A84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876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9E9-22CD-451E-8318-5B482BF2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E18-5FF7-4844-8B5A-0A2287A0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8B65-F7F9-4A11-AC50-AD4B123D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660-9B14-444D-A838-BF363D02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CDD06-D43B-4E76-9732-607CD4B1348F}" type="datetime">
              <a:rPr b="0" lang="en-US" sz="1400" spc="-1" strike="noStrike">
                <a:solidFill>
                  <a:srgbClr val="000000"/>
                </a:solidFill>
                <a:latin typeface="Trebuchet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37E4C-EAE3-4A3D-B0F0-91D51F00A8CD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46040" y="1902960"/>
            <a:ext cx="4647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6644B-4C7A-4E26-B7FE-2F1D47720D28}" type="datetime">
              <a:rPr b="0" lang="en-US" sz="1400" spc="-1" strike="noStrike">
                <a:solidFill>
                  <a:srgbClr val="000000"/>
                </a:solidFill>
                <a:latin typeface="Trebuchet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4B2EE-2F99-4672-A2CC-3DDE9D520168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idshealth.org/parent/general/aches/b_bone.html#a_How_Do_I_Know_if_It_s_Broken_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 rot="21042000">
            <a:off x="1022040" y="2960640"/>
            <a:ext cx="7551720" cy="16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    </a:t>
            </a: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roken Bone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 rot="21060000">
            <a:off x="2298600" y="4704840"/>
            <a:ext cx="627552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"/>
          <p:cNvSpPr/>
          <p:nvPr/>
        </p:nvSpPr>
        <p:spPr>
          <a:xfrm>
            <a:off x="4201560" y="492588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UCH!!!!!!!</a:t>
            </a:r>
            <a:endParaRPr b="0" lang="en-US" sz="2800" spc="-1" strike="noStrike">
              <a:solidFill>
                <a:srgbClr val="ffc118"/>
              </a:solidFill>
              <a:latin typeface="Arial Rounded MT Bold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141720" y="511200"/>
            <a:ext cx="2841480" cy="2841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What is a fracture?</a:t>
            </a:r>
            <a:br>
              <a:rPr sz="4400"/>
            </a:b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When you fracture a bone you break a bone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ractures are very painful 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242040" y="3036960"/>
            <a:ext cx="171612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What to do when somebody gets hurt…</a:t>
            </a:r>
            <a:br>
              <a:rPr sz="4400"/>
            </a:b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4280" y="2158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ell them to keep stil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Put a  ice pack on the injured bone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Call for medical help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If medical help says it is broken, go to doctors immediately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83560" y="5270400"/>
            <a:ext cx="15876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What NOT to do if somebody is hurt</a:t>
            </a:r>
            <a:br>
              <a:rPr sz="4400"/>
            </a:b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Do not straighten it or move the bone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If you do this may cause the bone to come through the skin!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000680" y="4619520"/>
            <a:ext cx="2232000" cy="19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8760" y="32508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How do you know if you have broken a bone?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5996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If you heard a snapping or grinding noise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08520" indent="-30852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May result in swelling , bruising, or tenderness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08520" indent="-30852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If  you cannot put weight on the bone or push on it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08520" indent="-30852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Looks deformed or poking through the skin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08520" indent="-30852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If the doctor says it is :)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08520" indent="-30852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08520" indent="-30852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08520" indent="-30852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219720" y="5559480"/>
            <a:ext cx="1154160" cy="1298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46604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What to do if after you have a broken bone?</a:t>
            </a:r>
            <a:br>
              <a:rPr sz="4400"/>
            </a:b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6480" y="1925280"/>
            <a:ext cx="714708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No activity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Keep broken bone elevated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237440" y="5388120"/>
            <a:ext cx="1906560" cy="1447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ヒラギノ角ゴ Pro W3"/>
              </a:rPr>
              <a:t>Site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Trebuchet MS"/>
                <a:hlinkClick r:id="rId2"/>
              </a:rPr>
              <a:t>http://kidshealth.org/parent/general/aches/b_bone.html#a_How_Do_I_Know_if_It_s_Broken_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9440" y="5372280"/>
            <a:ext cx="13003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3:32:05Z</dcterms:created>
  <dc:creator>kms kms</dc:creator>
  <dc:description/>
  <dc:language>en-US</dc:language>
  <cp:lastModifiedBy>Kraybill Campus LMS</cp:lastModifiedBy>
  <dcterms:modified xsi:type="dcterms:W3CDTF">2011-05-23T12:50:57Z</dcterms:modified>
  <cp:revision>9</cp:revision>
  <dc:subject/>
  <dc:title>    Broken Bones</dc:title>
</cp:coreProperties>
</file>